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6629-2B29-4945-BD65-70D1F0D5C1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00C9-388B-4885-859A-47E004F89E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CD21-A2FA-41D1-8B19-9AB607F0A8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773E-8CD4-4F3A-82BB-669019F896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078C-C882-4913-AA1B-104852681F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9605-703A-4BB9-BDB7-0EC760E7F0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5DF2-79F5-4FA1-9AF4-9B86E7D725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CDC6-BD4C-44F3-B050-81F0533228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D70E-6F30-417F-BA73-24A2A42F0F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46A3-EE46-451B-8869-DF6EB7F23B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D67D-358D-4A15-BD64-4AE161A9F2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264B-0013-4AF9-ACDF-B8F586D1A3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D2AB-AFC3-4510-A238-4F78E865E2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FC85-B2BB-4E16-A4F8-AFDC4E625B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66C1-D3DF-4C98-9B35-90E0605CA2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D7BC-B526-46D2-A739-7D5241DA48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D8B4-374E-4BDD-9F03-EA05F7210C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FBEE-1A25-49AA-9596-3CBA4C03FA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62C6-CB55-4481-907F-74334B7CE2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F22F-1C2A-46FD-A046-F474B62896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313A-BD96-4FC8-802F-27F814390E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66C4-A54B-4652-8D16-C0ACB2F924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0F1F-7A94-4CF4-8933-ED86837C73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494F-3323-4974-88DB-A14D48EA78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F2ED-DF1A-4614-BD5A-F412DC97AE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C631-4B48-4D41-883E-1162A79367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379F-F173-4731-9FE0-81F628E895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A290-38AA-4AC6-8B9A-2992E3953B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C217-E3D9-42D7-A5CC-5EF8651BD3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031D-D89E-41CA-B05A-7DC6C71929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6BF0-BE5C-41AD-A404-2A09C86A9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DB8C-B5A7-45E5-9C83-0EC3BC0A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25C6-BF72-43F6-906D-688286B11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BE69-0B17-484C-BECB-B1B97EDD6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8D1A-7F5C-427F-B6DA-48CB3B28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11F1-5D67-4973-ACF3-EB4AA054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1BD0-FD73-4B28-BC16-660C85B3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07EF-DF78-499A-9674-AD6A4D2D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A195-992E-4593-BFE0-77BDBA21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CAE7-73B4-4818-A043-F1CC5B67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4A30-D15F-43E7-84DF-797A3907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8480-899E-43DE-A2AB-4FE3BD1B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4EDB-24C2-4630-8161-04FE6FBEC0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следовательская и проектная деятельности. Сходство и различие</a:t>
            </a: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371600" y="209520"/>
            <a:ext cx="6469200" cy="10368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fgossoo1.png"/>
          <p:cNvPicPr/>
          <p:nvPr/>
        </p:nvPicPr>
        <p:blipFill>
          <a:blip r:embed="rId2"/>
          <a:stretch/>
        </p:blipFill>
        <p:spPr>
          <a:xfrm>
            <a:off x="2898720" y="2971800"/>
            <a:ext cx="3414600" cy="1427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1392120" y="4114800"/>
            <a:ext cx="7108920" cy="184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Проектирова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https://sun9-47.userapi.com/c855720/v855720340/99a24/ngmZVz7TvG0.jpg"/>
          <p:cNvPicPr/>
          <p:nvPr/>
        </p:nvPicPr>
        <p:blipFill>
          <a:blip r:embed="rId1"/>
          <a:stretch/>
        </p:blipFill>
        <p:spPr>
          <a:xfrm>
            <a:off x="2743200" y="2057400"/>
            <a:ext cx="35751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ектиров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лат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jectus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ошенный вперёд) – тесно связанная с наукой и инженерией деятельность по разработке и созданию проекта (прототипа, прообраза предполагаемого или возможного объекта или состоян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ектная деятель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 практико-ориентированная деятельность, целью которой является разработка новых, не существующих в практике «объектов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ектное обучен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организация самостоятельной творческой деятельности учеников в рамках работы над определённой выбранной темой (проектом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смоловская Т.В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вная педагогическая цель любого проекта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ормирование различных ключевых компетенций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д которыми в современной педагогике понимаются комплексные свойства личности, включающие взаимосвязанные знания, умения, ценности, а также готовность мобилизовать их в необходимой ситу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тапы проектир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проектный этап (иначе называют предварительным или стартовы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п реализации прое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флексивный эта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проектный эта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чебные проект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ый проект – это «организационная форма работы, ориентированная на изучение законченной учебной темы или учебного раздела и составляющая часть стандартного учебного курса или нескольких курсов»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l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Обучение для будущего при поддержк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crosoft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4-е изд. – М., 2004. С.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учебном проектировании сфера приложения преобразовательной активности учащих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екстно задана предметной областью (отдельным предметом) или учебной проблемой, носящей межпредметный характер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араметры формата проек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ст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школьный, внешко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сштабу субъек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индивидуальный, групповой, коллективный, корпоратив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реме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краткосрочный, среднесрочный, долгосроч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ерритории распростран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внутришкольный, региональный, сетевой, международный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держан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предметный, межпредметный, междисциплинарный, интегратив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арактеру приоритетной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исследовательский, экспериментальный, поисковый, коммуникацион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 характеру участия Ребёнка в проекте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казчик, эксперт, исполнитель, участник от зарождения идеи до полученного результ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9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98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98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98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98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98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98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898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держание работы над учебным проектом (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ля педагога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ие учащихся в проектную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и утверждение тематики про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ление графика работы над проек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бор и анализ литературных источ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и контроль процесса выполнения проекта (консультац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роль за оформлением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и проведение предзащиты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роль за доработкой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щита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ведение итогов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0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держание работы над учебным проектом (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ля учащихся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учение информации о проек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ор темы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ление индивидуального графика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суждение хода выполнения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формление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защита в групп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работка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щита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суговые проекты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дагогическое проектирование, связанное со сферой досуг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, каникулярный проект. Это может быть программа деятельности летнего школьного лагеря или концепция воспитательной работы школы во время каникул, сценарий какого-либо праздника, план работы на смену, положение о детском фестивале и др.  Каникулярные проекты имеют смысл, если носят событийный характер, органично вписываясь в жизнедеятельность детей и взрослых, вместе проводящих канику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. Исследование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https://navigator.zabedu.ru/images/events/cover/9814921059931eecfc3023411b54eb7a_big.jpg"/>
          <p:cNvPicPr/>
          <p:nvPr/>
        </p:nvPicPr>
        <p:blipFill>
          <a:blip r:embed="rId1"/>
          <a:stretch/>
        </p:blipFill>
        <p:spPr>
          <a:xfrm>
            <a:off x="1828800" y="2514600"/>
            <a:ext cx="5657760" cy="37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роцессе проектной деятельности дети уча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ировать и осознавать изучаемую пробле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гументированно формулировать и отстаивать свои проектные замысл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абатывать реальные гипотезы, проверять их в соответствии с четким план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определению и позициирован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огости и четкости в рабо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ию планировать свои изыск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игаться к намеченной цели (важному для жизни стремлению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0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89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898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898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898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898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898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898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898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сследовательская и проектная деятельности: сходство и различ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 1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е основные «параметры» сравнения исследовательской и проектной деятельности и продумайте мотивацию выдвижения именно таких парамет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ние и проектирование – изначально принципиально разные по направленности, смыслу и содержанию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ние – бескорыстный поиск истины, а проектирование – решение определённой, ясно осознаваемой зада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сследован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бнаруживае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о, что уже е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ек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оздаё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о, чего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ткая схема организации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адумал – спроектировал – осуществил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т.е. получил продук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ткая схема организации исследования (естественнонаучного типа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явление – описание – модель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бъяснени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898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898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898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898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898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898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898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898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898" fill="hold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следовательская и проектная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сследован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лючевыми становятс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пособы верифик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бор данных) или проверки правильности (истинности) той или иной определяемой модели. В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ек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лючевыми являютс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пособы коммуник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нформационные, организационные и иные производственные ум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ое отличие рассматриваемых методов заключается в рефлексивной составляющей. Речь идёт об осознании того,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какую культурную роль я исполняю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ходе того или иного процесса: исследователя или проектировщ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0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89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898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898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личия исследования и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сследова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сит вневремен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укт – 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знания важен критерий исти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ние направлено на идеальный объек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ускает бесконечное движение вглуб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орчество в чистом виде. В исследовании значительно больше места для импров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8320" y="1143000"/>
            <a:ext cx="4038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ек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ределён временными рам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укт – про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роекта – критерий реализуе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ирование направлено на организационную фор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начально задает предел, глубину решения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орчество не в полной мере, творчество по плану, в определенных контролируемых рамк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0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учение исследованию и проектированию предполаг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ение учащихся в процесс переоткрытия знаний, что позволяет воспроизводить разные формы научного труда и теоретического мыш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уждение с детьми границ их знания и незнания, благодаря чему их можно учить такому типу исследовательской деятельности, который выводит на передний план порождение человеческого 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ение операциям и процедурам исследования (обследование, наблюдение, эксперимент, анализ и т.п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соответствующих спосо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соответствующих образовательных фор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ение детей в процесс создания новых организационно-деятельностных форм при работе в образовательных проек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ичие запаса знаний, опыта и впечатлений, благодаря чему происходит обогащение (расширение и детализация) знаний и представ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ение операциям и процедурам проектирования (проблематизация, самоопределение, позицирование, и т.п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соответствующих спосо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-организацию всех участников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ование и проект осуществляются в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реде неопределён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именно это и активизирует познавательную деятельность субъ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чение через исследование и проект личностно ориентировано. Ученик становится субъектом, а не объектом образовательного процес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учение исследованию и проектированию формирует такие основные качества лич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ние поставить творческую (достойную) цель и подчинить свою деятельность её достижени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ние планировать и самоконтролировать свою деятель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ние находить и решать проблемы, составляющие основу це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ние защищать свои убеж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следовательская и проектная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чем нужно учиться делать проекты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тобы потом осуществлять их в жизни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тобы понимать: хорошая идея сама по себе ещё не решает исход дела,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необходимо представлять себе, каков механизм её реализ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ак будет выглядеть конечный продук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чем нужно учиться проводить исследова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тобы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поддерживать врожденное любопытство Ребён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снабжать его инструментарием, показывающим, что мы можем успешно познавать мир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у же цель можно определить как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евращение поведенческой модели в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ультурную рол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«исследовател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0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89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898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898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898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898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сследовани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процесс поиска неизвестного, новых знаний, один из видов познавательной деятельности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сследовательская деятель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деятельность, связанная с поиском ответа на творческую, исследовательскую задачу с заранее неизвестным решением и предполагающая наличие основных этапов, характерных для исследования в научной сфе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уктура научного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"/>
          <p:cNvSpPr/>
          <p:nvPr/>
        </p:nvSpPr>
        <p:spPr>
          <a:xfrm>
            <a:off x="6012000" y="2276640"/>
            <a:ext cx="2376360" cy="360360"/>
          </a:xfrm>
          <a:prstGeom prst="roundRect">
            <a:avLst>
              <a:gd name="adj" fmla="val 16667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ef"/>
                </a:solidFill>
                <a:latin typeface="Garamond"/>
              </a:rPr>
              <a:t>гипот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971640" y="3573360"/>
            <a:ext cx="2376360" cy="360360"/>
          </a:xfrm>
          <a:prstGeom prst="roundRect">
            <a:avLst>
              <a:gd name="adj" fmla="val 16667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ef"/>
                </a:solidFill>
                <a:latin typeface="Garamond"/>
              </a:rPr>
              <a:t>экспери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"/>
          <p:cNvSpPr/>
          <p:nvPr/>
        </p:nvSpPr>
        <p:spPr>
          <a:xfrm>
            <a:off x="971640" y="4292640"/>
            <a:ext cx="2376360" cy="360360"/>
          </a:xfrm>
          <a:prstGeom prst="roundRect">
            <a:avLst>
              <a:gd name="adj" fmla="val 16667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ef"/>
                </a:solidFill>
                <a:latin typeface="Garamond"/>
              </a:rPr>
              <a:t>рабочая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ef"/>
                </a:solidFill>
                <a:latin typeface="Garamond"/>
              </a:rPr>
              <a:t>гипот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2268360" y="4941720"/>
            <a:ext cx="2303640" cy="360360"/>
          </a:xfrm>
          <a:prstGeom prst="roundRect">
            <a:avLst>
              <a:gd name="adj" fmla="val 16667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ef"/>
                </a:solidFill>
                <a:latin typeface="Garamond"/>
              </a:rPr>
              <a:t>количе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0" y="4941720"/>
            <a:ext cx="2087640" cy="360360"/>
          </a:xfrm>
          <a:prstGeom prst="roundRect">
            <a:avLst>
              <a:gd name="adj" fmla="val 16667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ef"/>
                </a:solidFill>
                <a:latin typeface="Garamond"/>
              </a:rPr>
              <a:t>каче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8"/>
          <p:cNvSpPr/>
          <p:nvPr/>
        </p:nvSpPr>
        <p:spPr>
          <a:xfrm>
            <a:off x="971640" y="5589720"/>
            <a:ext cx="2376360" cy="360360"/>
          </a:xfrm>
          <a:prstGeom prst="roundRect">
            <a:avLst>
              <a:gd name="adj" fmla="val 16667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ef"/>
                </a:solidFill>
                <a:latin typeface="Garamond"/>
              </a:rPr>
              <a:t>наблю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9"/>
          <p:cNvSpPr/>
          <p:nvPr/>
        </p:nvSpPr>
        <p:spPr>
          <a:xfrm>
            <a:off x="971640" y="6237360"/>
            <a:ext cx="2376360" cy="361800"/>
          </a:xfrm>
          <a:prstGeom prst="roundRect">
            <a:avLst>
              <a:gd name="adj" fmla="val 16667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ef"/>
                </a:solidFill>
                <a:latin typeface="Garamond"/>
              </a:rPr>
              <a:t>фа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"/>
          <p:cNvSpPr/>
          <p:nvPr/>
        </p:nvSpPr>
        <p:spPr>
          <a:xfrm>
            <a:off x="971640" y="2133720"/>
            <a:ext cx="2376360" cy="360360"/>
          </a:xfrm>
          <a:prstGeom prst="roundRect">
            <a:avLst>
              <a:gd name="adj" fmla="val 16667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ef"/>
                </a:solidFill>
                <a:latin typeface="Garamond"/>
              </a:rPr>
              <a:t>объяс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1"/>
          <p:cNvSpPr/>
          <p:nvPr/>
        </p:nvSpPr>
        <p:spPr>
          <a:xfrm>
            <a:off x="971640" y="2852640"/>
            <a:ext cx="2376360" cy="360360"/>
          </a:xfrm>
          <a:prstGeom prst="roundRect">
            <a:avLst>
              <a:gd name="adj" fmla="val 16667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ef"/>
                </a:solidFill>
                <a:latin typeface="Garamond"/>
              </a:rPr>
              <a:t>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2"/>
          <p:cNvSpPr/>
          <p:nvPr/>
        </p:nvSpPr>
        <p:spPr>
          <a:xfrm>
            <a:off x="5724360" y="5157720"/>
            <a:ext cx="2988000" cy="360360"/>
          </a:xfrm>
          <a:prstGeom prst="roundRect">
            <a:avLst>
              <a:gd name="adj" fmla="val 16667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ef"/>
                </a:solidFill>
                <a:latin typeface="Garamond"/>
              </a:rPr>
              <a:t>те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3"/>
          <p:cNvSpPr/>
          <p:nvPr/>
        </p:nvSpPr>
        <p:spPr>
          <a:xfrm>
            <a:off x="5724360" y="5805360"/>
            <a:ext cx="3059280" cy="863640"/>
          </a:xfrm>
          <a:prstGeom prst="roundRect">
            <a:avLst>
              <a:gd name="adj" fmla="val 16667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ef"/>
                </a:solidFill>
                <a:latin typeface="Garamond"/>
              </a:rPr>
              <a:t>ЗА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ef"/>
                </a:solidFill>
                <a:latin typeface="Garamond"/>
              </a:rPr>
              <a:t>(ЗАКОНОМЕРНОСТЬ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4"/>
          <p:cNvSpPr/>
          <p:nvPr/>
        </p:nvSpPr>
        <p:spPr>
          <a:xfrm>
            <a:off x="3924360" y="3860640"/>
            <a:ext cx="1511280" cy="287640"/>
          </a:xfrm>
          <a:prstGeom prst="flowChartTerminator">
            <a:avLst/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ef"/>
                </a:solidFill>
                <a:latin typeface="Garamond"/>
              </a:rPr>
              <a:t>отверг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5"/>
          <p:cNvSpPr/>
          <p:nvPr/>
        </p:nvSpPr>
        <p:spPr>
          <a:xfrm>
            <a:off x="4427640" y="4437000"/>
            <a:ext cx="1871640" cy="289080"/>
          </a:xfrm>
          <a:prstGeom prst="flowChartTerminator">
            <a:avLst/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ef"/>
                </a:solidFill>
                <a:latin typeface="Garamond"/>
              </a:rPr>
              <a:t>корректиру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6"/>
          <p:cNvSpPr/>
          <p:nvPr/>
        </p:nvSpPr>
        <p:spPr>
          <a:xfrm>
            <a:off x="6443640" y="4508640"/>
            <a:ext cx="1655640" cy="360360"/>
          </a:xfrm>
          <a:prstGeom prst="flowChartTerminator">
            <a:avLst/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ef"/>
                </a:solidFill>
                <a:latin typeface="Garamond"/>
              </a:rPr>
              <a:t>приним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7"/>
          <p:cNvSpPr/>
          <p:nvPr/>
        </p:nvSpPr>
        <p:spPr>
          <a:xfrm>
            <a:off x="2050920" y="5950080"/>
            <a:ext cx="216000" cy="287280"/>
          </a:xfrm>
          <a:prstGeom prst="upArrow">
            <a:avLst>
              <a:gd name="adj1" fmla="val 50000"/>
              <a:gd name="adj2" fmla="val 33250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8"/>
          <p:cNvSpPr/>
          <p:nvPr/>
        </p:nvSpPr>
        <p:spPr>
          <a:xfrm>
            <a:off x="2050920" y="3933720"/>
            <a:ext cx="217440" cy="360360"/>
          </a:xfrm>
          <a:prstGeom prst="upArrow">
            <a:avLst>
              <a:gd name="adj1" fmla="val 50000"/>
              <a:gd name="adj2" fmla="val 41432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9"/>
          <p:cNvSpPr/>
          <p:nvPr/>
        </p:nvSpPr>
        <p:spPr>
          <a:xfrm>
            <a:off x="2050920" y="3213000"/>
            <a:ext cx="217440" cy="360360"/>
          </a:xfrm>
          <a:prstGeom prst="upArrow">
            <a:avLst>
              <a:gd name="adj1" fmla="val 50000"/>
              <a:gd name="adj2" fmla="val 41432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0"/>
          <p:cNvSpPr/>
          <p:nvPr/>
        </p:nvSpPr>
        <p:spPr>
          <a:xfrm>
            <a:off x="2050920" y="2492280"/>
            <a:ext cx="217440" cy="360360"/>
          </a:xfrm>
          <a:prstGeom prst="upArrow">
            <a:avLst>
              <a:gd name="adj1" fmla="val 50000"/>
              <a:gd name="adj2" fmla="val 41432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1"/>
          <p:cNvSpPr/>
          <p:nvPr/>
        </p:nvSpPr>
        <p:spPr>
          <a:xfrm>
            <a:off x="2700360" y="5300640"/>
            <a:ext cx="216000" cy="289080"/>
          </a:xfrm>
          <a:prstGeom prst="upArrow">
            <a:avLst>
              <a:gd name="adj1" fmla="val 50000"/>
              <a:gd name="adj2" fmla="val 33458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2"/>
          <p:cNvSpPr/>
          <p:nvPr/>
        </p:nvSpPr>
        <p:spPr>
          <a:xfrm>
            <a:off x="1332000" y="5300640"/>
            <a:ext cx="215640" cy="289080"/>
          </a:xfrm>
          <a:prstGeom prst="upArrow">
            <a:avLst>
              <a:gd name="adj1" fmla="val 50000"/>
              <a:gd name="adj2" fmla="val 33514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3"/>
          <p:cNvSpPr/>
          <p:nvPr/>
        </p:nvSpPr>
        <p:spPr>
          <a:xfrm>
            <a:off x="2700360" y="4653000"/>
            <a:ext cx="216000" cy="288720"/>
          </a:xfrm>
          <a:prstGeom prst="upArrow">
            <a:avLst>
              <a:gd name="adj1" fmla="val 50000"/>
              <a:gd name="adj2" fmla="val 33417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4"/>
          <p:cNvSpPr/>
          <p:nvPr/>
        </p:nvSpPr>
        <p:spPr>
          <a:xfrm>
            <a:off x="1332000" y="4653000"/>
            <a:ext cx="215640" cy="288720"/>
          </a:xfrm>
          <a:prstGeom prst="upArrow">
            <a:avLst>
              <a:gd name="adj1" fmla="val 50000"/>
              <a:gd name="adj2" fmla="val 33472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5"/>
          <p:cNvSpPr/>
          <p:nvPr/>
        </p:nvSpPr>
        <p:spPr>
          <a:xfrm>
            <a:off x="3048120" y="1752480"/>
            <a:ext cx="5473440" cy="865440"/>
          </a:xfrm>
          <a:custGeom>
            <a:avLst/>
            <a:gdLst>
              <a:gd name="textAreaLeft" fmla="*/ 801360 w 5473440"/>
              <a:gd name="textAreaRight" fmla="*/ 4672080 w 5473440"/>
              <a:gd name="textAreaTop" fmla="*/ 126720 h 865440"/>
              <a:gd name="textAreaBottom" fmla="*/ 738720 h 865440"/>
            </a:gdLst>
            <a:ahLst/>
            <a:rect l="textAreaLeft" t="textAreaTop" r="textAreaRight" b="textAreaBottom"/>
            <a:pathLst>
              <a:path w="21600" h="21600">
                <a:moveTo>
                  <a:pt x="19702" y="11572"/>
                </a:moveTo>
                <a:cubicBezTo>
                  <a:pt x="19724" y="11315"/>
                  <a:pt x="19736" y="11058"/>
                  <a:pt x="19736" y="10800"/>
                </a:cubicBezTo>
                <a:cubicBezTo>
                  <a:pt x="19736" y="5864"/>
                  <a:pt x="15735" y="1864"/>
                  <a:pt x="10800" y="1864"/>
                </a:cubicBezTo>
                <a:cubicBezTo>
                  <a:pt x="5864" y="1864"/>
                  <a:pt x="1864" y="5864"/>
                  <a:pt x="1864" y="10800"/>
                </a:cubicBezTo>
                <a:cubicBezTo>
                  <a:pt x="1863" y="10805"/>
                  <a:pt x="1864" y="10810"/>
                  <a:pt x="1864" y="10815"/>
                </a:cubicBezTo>
                <a:lnTo>
                  <a:pt x="0" y="10819"/>
                </a:lnTo>
                <a:cubicBezTo>
                  <a:pt x="0" y="10812"/>
                  <a:pt x="0" y="10806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111"/>
                  <a:pt x="21586" y="11423"/>
                  <a:pt x="21559" y="11734"/>
                </a:cubicBezTo>
                <a:lnTo>
                  <a:pt x="24249" y="11967"/>
                </a:lnTo>
                <a:lnTo>
                  <a:pt x="20317" y="15272"/>
                </a:lnTo>
                <a:lnTo>
                  <a:pt x="17012" y="11339"/>
                </a:lnTo>
                <a:lnTo>
                  <a:pt x="19702" y="11572"/>
                </a:lnTo>
                <a:close/>
              </a:path>
            </a:pathLst>
          </a:cu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6"/>
          <p:cNvSpPr/>
          <p:nvPr/>
        </p:nvSpPr>
        <p:spPr>
          <a:xfrm>
            <a:off x="7164360" y="479736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7"/>
          <p:cNvSpPr/>
          <p:nvPr/>
        </p:nvSpPr>
        <p:spPr>
          <a:xfrm>
            <a:off x="7164360" y="5516640"/>
            <a:ext cx="216000" cy="287280"/>
          </a:xfrm>
          <a:prstGeom prst="downArrow">
            <a:avLst>
              <a:gd name="adj1" fmla="val 50000"/>
              <a:gd name="adj2" fmla="val 33250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8"/>
          <p:cNvSpPr/>
          <p:nvPr/>
        </p:nvSpPr>
        <p:spPr>
          <a:xfrm>
            <a:off x="7236000" y="2637000"/>
            <a:ext cx="0" cy="187164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9"/>
          <p:cNvSpPr/>
          <p:nvPr/>
        </p:nvSpPr>
        <p:spPr>
          <a:xfrm flipH="1">
            <a:off x="5364000" y="2637000"/>
            <a:ext cx="1872000" cy="180000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0"/>
          <p:cNvSpPr/>
          <p:nvPr/>
        </p:nvSpPr>
        <p:spPr>
          <a:xfrm flipH="1">
            <a:off x="4643280" y="2637000"/>
            <a:ext cx="2592720" cy="122364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1"/>
          <p:cNvSpPr/>
          <p:nvPr/>
        </p:nvSpPr>
        <p:spPr>
          <a:xfrm flipH="1">
            <a:off x="3347640" y="4005360"/>
            <a:ext cx="576360" cy="36036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2"/>
          <p:cNvSpPr/>
          <p:nvPr/>
        </p:nvSpPr>
        <p:spPr>
          <a:xfrm flipH="1" flipV="1">
            <a:off x="3347640" y="4508640"/>
            <a:ext cx="1079640" cy="7272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4"/>
          <p:cNvSpPr/>
          <p:nvPr/>
        </p:nvSpPr>
        <p:spPr>
          <a:xfrm>
            <a:off x="1143000" y="2209680"/>
            <a:ext cx="228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чебно-исследовательская деятельност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процесс решения учащимися научных и личностных проблем, имеющий своей целью построение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субъективно нового зн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апы И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сферы исследования: определение направления будущего исследования; формулировка вопросов, на которые необходимо получить отве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значение границ исследования: выбор 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ботка цели, задач и гипотезы исслед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исследования: выявление и систематизация методов исследования; составление плана - определение последовательности проведения исслед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бор и обработка информ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и обобщение полученных материалов. Формулирование выв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а отч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бличная презентация результатов. Рефлекс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98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98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98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98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98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98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следовательские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творческие работы, выполненные с помощью корректной с научной точки зрения методики, имеющие полученный с помощью этой методики собственный экспериментальный материал, на основании которого делается анализ и выводы о характере исследуемого явления. Особенностью таких работ является непредопределенность результата, который могут дать исслед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роцессе учебно-исследовательской деятельности дети уча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еть и выделять пробле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имать и ставить пробле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ать пробл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ировать объект (предмет, явление, событие, их свойств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ять существенные признаки и связ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поставлять различные фак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вигать гипотезы, предполож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бирать средства и материалы для самостоятель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стоятельно генерировать идеи, т. е. изобретать способ действия, привлекая знания из различных обла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мысливать задачу, для решения которой недостаточно зн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чать на вопрос: чем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научиться для решения поставленной задач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стоятельно находить недостающую информацию в информационном пол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рашивать недостающую информацию у эксперта (учителя, консультанта, специалист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ходить несколько вариантов решения пробл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авливать причинно-следственные связ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лять эксперимен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ать выво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ксировать этапы действий и результаты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рина Штехман</dc:creator>
  <dc:description/>
  <dc:language>en-US</dc:language>
  <cp:lastModifiedBy>Марина</cp:lastModifiedBy>
  <dcterms:modified xsi:type="dcterms:W3CDTF">2021-08-06T01:54:57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